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6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49.wmf" ContentType="image/x-wmf"/>
  <Override PartName="/ppt/media/image50.png" ContentType="image/png"/>
  <Override PartName="/ppt/media/image48.wmf" ContentType="image/x-wmf"/>
  <Override PartName="/ppt/media/image47.wmf" ContentType="image/x-wmf"/>
  <Override PartName="/ppt/media/image13.jpeg" ContentType="image/jpeg"/>
  <Override PartName="/ppt/media/image20.png" ContentType="image/png"/>
  <Override PartName="/ppt/media/image10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7.jpeg" ContentType="image/jpeg"/>
  <Override PartName="/ppt/media/image45.wmf" ContentType="image/x-wmf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34.png" ContentType="image/png"/>
  <Override PartName="/ppt/media/image71.png" ContentType="image/png"/>
  <Override PartName="/ppt/media/image29.png" ContentType="image/png"/>
  <Override PartName="/ppt/media/image72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4.png" ContentType="image/png"/>
  <Override PartName="/ppt/media/image7.jpeg" ContentType="image/jpeg"/>
  <Override PartName="/ppt/media/image65.png" ContentType="image/png"/>
  <Override PartName="/ppt/media/image27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3.png" ContentType="image/png"/>
  <Override PartName="/ppt/media/image53.png" ContentType="image/png"/>
  <Override PartName="/ppt/media/image6.png" ContentType="image/png"/>
  <Override PartName="/ppt/media/image36.png" ContentType="image/png"/>
  <Override PartName="/ppt/media/image9.jpeg" ContentType="image/jpeg"/>
  <Override PartName="/ppt/media/image14.png" ContentType="image/png"/>
  <Override PartName="/ppt/media/image11.gif" ContentType="image/gif"/>
  <Override PartName="/ppt/media/image44.wmf" ContentType="image/x-wmf"/>
  <Override PartName="/ppt/media/image12.png" ContentType="image/png"/>
  <Override PartName="/ppt/media/image32.png" ContentType="image/png"/>
  <Override PartName="/ppt/media/image33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6.wmf" ContentType="image/x-wmf"/>
  <Override PartName="/ppt/media/image69.jpeg" ContentType="image/jpeg"/>
  <Override PartName="/ppt/media/image18.gif" ContentType="image/gif"/>
  <Override PartName="/ppt/media/image4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91160"/>
            <a:ext cx="494676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F1A7-AE73-4EB8-A23D-2CDD9C689B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ing a bad job often gives better scal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e thing happens if a slower CPU is empl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om this little number juggle we not only learn that bad programs scale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wing that processing data in big chunks gives better speedup we conclude that the more coarse grained our parallelization is, the better performance we exp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irst point is true also for shared memory approaches but the second and the third are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tion that hardware vendors, software vendors, academic and industrial researchers took part in developing M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the de facto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is continu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040" y="4710240"/>
            <a:ext cx="494676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mpilers allow you to specify a default number of pro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important to notice that mpprun does not always pick up path variables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 forget to have a slide or two explaining how to run a mpi program in the environment used for the workshop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also use mpirun on the Cray-t3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PI does not specify mpirun. But does specify an optional mpiexec (check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6760" y="4692600"/>
            <a:ext cx="495000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your measure of success we are one of the best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tables we appear around 5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42C8-B353-452C-BAE8-3481A1EA01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, Fortran has either fixed or free sour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CAE7-D626-49C3-8954-22AE551399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, Fortran has either fixed or free sour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C734-CF4A-4858-9327-E15E95606F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896760" y="4692600"/>
            <a:ext cx="4950000" cy="4446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chester Computing - was MCC - was UMR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cademic service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vier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Academia on the National Serv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Distribution and 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media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901800" y="743040"/>
            <a:ext cx="4938480" cy="3703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30A-CCA5-4191-A2A1-26E32351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384-6FE3-4ACE-B15C-9DDBB668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81F-BB9D-4703-84F9-2A3B2E35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CC9-F646-46B0-9417-141E8F31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CCAD-DBBF-4DDE-A637-600DB478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306D-A33B-4AB6-9CAB-1981EC50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6683-195B-4C56-BC5B-FF6664CE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1EBA-16F6-4C5D-87E5-98C46DDD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4002-5B66-41CD-8BB5-79732EAB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FA21-C043-4FAF-A471-53907DA4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AFFB-0F3C-4676-8F2E-65CCE152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C7B-72D1-4129-B60B-85DFF459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589F-DB1B-47A9-A3CF-6D1B151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25EC-7CAA-43CA-8652-444E501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A406-AEDD-4561-A806-3A25BE4B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6E91-777D-472A-898F-BA4CF553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4C6B-C059-4FA2-9442-08759ED4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176-01A1-4013-995C-3FDF4F98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F11-856F-42BF-B9AE-D7A2C61B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E22-9BFF-43A7-938E-09969E79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EF4-FCB8-470C-BF9F-5A1B5BB4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4DA-3507-460C-88C0-56DB58BF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9E9-4E4E-427A-8868-43FC961B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B84-3B7A-4DFC-9AE9-AB712D3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74B2-A66E-4E9F-AFC0-FE6D92116E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52480" y="1523880"/>
            <a:ext cx="69343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3880"/>
            <a:ext cx="15264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248520"/>
            <a:ext cx="85345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mvclogo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1428480" cy="714240"/>
          </a:xfrm>
          <a:prstGeom prst="rect">
            <a:avLst/>
          </a:prstGeom>
          <a:ln w="0">
            <a:noFill/>
          </a:ln>
        </p:spPr>
      </p:pic>
      <p:pic>
        <p:nvPicPr>
          <p:cNvPr id="9" name="mrccs" descr=""/>
          <p:cNvPicPr/>
          <p:nvPr/>
        </p:nvPicPr>
        <p:blipFill>
          <a:blip r:embed="rId3"/>
          <a:stretch/>
        </p:blipFill>
        <p:spPr>
          <a:xfrm>
            <a:off x="6629400" y="1295280"/>
            <a:ext cx="174780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067C-8066-4F2F-B564-60109EDB0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914400"/>
            <a:ext cx="67057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914400"/>
            <a:ext cx="15228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867280"/>
            <a:ext cx="83059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vclogo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42848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mrccs" descr=""/>
          <p:cNvPicPr/>
          <p:nvPr/>
        </p:nvPicPr>
        <p:blipFill>
          <a:blip r:embed="rId3"/>
          <a:stretch/>
        </p:blipFill>
        <p:spPr>
          <a:xfrm>
            <a:off x="6629400" y="685800"/>
            <a:ext cx="1747800" cy="446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39.png"/><Relationship Id="rId17" Type="http://schemas.openxmlformats.org/officeDocument/2006/relationships/image" Target="../media/image39.png"/><Relationship Id="rId18" Type="http://schemas.openxmlformats.org/officeDocument/2006/relationships/image" Target="../media/image39.png"/><Relationship Id="rId19" Type="http://schemas.openxmlformats.org/officeDocument/2006/relationships/image" Target="../media/image39.png"/><Relationship Id="rId20" Type="http://schemas.openxmlformats.org/officeDocument/2006/relationships/image" Target="../media/image39.png"/><Relationship Id="rId21" Type="http://schemas.openxmlformats.org/officeDocument/2006/relationships/image" Target="../media/image39.png"/><Relationship Id="rId22" Type="http://schemas.openxmlformats.org/officeDocument/2006/relationships/image" Target="../media/image39.png"/><Relationship Id="rId23" Type="http://schemas.openxmlformats.org/officeDocument/2006/relationships/image" Target="../media/image39.png"/><Relationship Id="rId24" Type="http://schemas.openxmlformats.org/officeDocument/2006/relationships/image" Target="../media/image39.png"/><Relationship Id="rId25" Type="http://schemas.openxmlformats.org/officeDocument/2006/relationships/image" Target="../media/image39.png"/><Relationship Id="rId26" Type="http://schemas.openxmlformats.org/officeDocument/2006/relationships/image" Target="../media/image39.png"/><Relationship Id="rId27" Type="http://schemas.openxmlformats.org/officeDocument/2006/relationships/image" Target="../media/image39.png"/><Relationship Id="rId28" Type="http://schemas.openxmlformats.org/officeDocument/2006/relationships/image" Target="../media/image39.png"/><Relationship Id="rId29" Type="http://schemas.openxmlformats.org/officeDocument/2006/relationships/image" Target="../media/image39.png"/><Relationship Id="rId30" Type="http://schemas.openxmlformats.org/officeDocument/2006/relationships/image" Target="../media/image39.png"/><Relationship Id="rId31" Type="http://schemas.openxmlformats.org/officeDocument/2006/relationships/image" Target="../media/image39.png"/><Relationship Id="rId32" Type="http://schemas.openxmlformats.org/officeDocument/2006/relationships/image" Target="../media/image39.png"/><Relationship Id="rId33" Type="http://schemas.openxmlformats.org/officeDocument/2006/relationships/image" Target="../media/image39.png"/><Relationship Id="rId34" Type="http://schemas.openxmlformats.org/officeDocument/2006/relationships/image" Target="../media/image39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16.jpeg"/><Relationship Id="rId3" Type="http://schemas.openxmlformats.org/officeDocument/2006/relationships/image" Target="../media/image70.jpe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hat have the Earths' Mantle &amp; an Egyptian Mummy in Common? 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 T Hewit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irector Manchester Visualization Centr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SAR User Services Manag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101" name="uom" descr=""/>
          <p:cNvPicPr/>
          <p:nvPr/>
        </p:nvPicPr>
        <p:blipFill>
          <a:blip r:embed="rId1"/>
          <a:stretch/>
        </p:blipFill>
        <p:spPr>
          <a:xfrm>
            <a:off x="1219320" y="5067360"/>
            <a:ext cx="7327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ing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chine Room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ray T3E-1200E, 816 PE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ujitsu VPP300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, 8 P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BM SP2 90 P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GI Intel IA-64 8 P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rigin2000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6 PE (CSAR),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44 PE (Hillier/Hewitt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6 PE (Brass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40 PE (Local HPC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8 PE (NOVIC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n E6500 24 PE (MIMAS),  E4500, E4000 (JSTOR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100 PCs for services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wo tape Silos (150 TB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896-DDD2-40E6-A727-C92104051E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anchester Visualization Cent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905120"/>
            <a:ext cx="47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raphics,  visualization, multimedia,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image processing &amp; Web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Since 19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VIP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40 CPU Origin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6 x InfiniteReality 3 Graphics Pip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Panoram GVR 120 ( Cylindrical Screen,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Three Electrahome Projectors, Active Stere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he International AVS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Research &amp;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eaching &amp; Supervising MSc &amp; Ph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DCP_1614" descr=""/>
          <p:cNvPicPr/>
          <p:nvPr/>
        </p:nvPicPr>
        <p:blipFill>
          <a:blip r:embed="rId1"/>
          <a:stretch/>
        </p:blipFill>
        <p:spPr>
          <a:xfrm>
            <a:off x="5410080" y="4379760"/>
            <a:ext cx="3733920" cy="2478240"/>
          </a:xfrm>
          <a:prstGeom prst="rect">
            <a:avLst/>
          </a:prstGeom>
          <a:ln w="0">
            <a:noFill/>
          </a:ln>
        </p:spPr>
      </p:pic>
      <p:pic>
        <p:nvPicPr>
          <p:cNvPr id="219" name="DCP_1615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22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8FC-394E-4744-9339-12703E156E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324480" y="990720"/>
            <a:ext cx="25909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Research &amp; Development Area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cientific visualiz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HPC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istributed &amp; Meta Comput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sets &amp; data min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High Performance Computing Technologie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High speed Wide Area Network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URBS, Anim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3D Graphics, Radiosity, &amp; Ray-trac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WW &amp; Collaborative worki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23" name="Ag00011_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249408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FC4-F74F-4522-9AF7-98C71ED3C9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evelop the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AVS/Express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AVS5 Module Repositori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anage the IAC Web Sit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lected Research Projects on behalf of AVS Inc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pport User Group Activitie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ticipate in AVS Product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Solution Testing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 Q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www.iavsc.or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26" name="iac_logo" descr=""/>
          <p:cNvPicPr/>
          <p:nvPr/>
        </p:nvPicPr>
        <p:blipFill>
          <a:blip r:embed="rId1"/>
          <a:stretch/>
        </p:blipFill>
        <p:spPr>
          <a:xfrm>
            <a:off x="6248520" y="4545000"/>
            <a:ext cx="2427120" cy="1627200"/>
          </a:xfrm>
          <a:prstGeom prst="rect">
            <a:avLst/>
          </a:prstGeom>
          <a:ln w="0">
            <a:noFill/>
          </a:ln>
        </p:spPr>
      </p:pic>
      <p:pic>
        <p:nvPicPr>
          <p:cNvPr id="227" name="iac_banner" descr=""/>
          <p:cNvPicPr/>
          <p:nvPr/>
        </p:nvPicPr>
        <p:blipFill>
          <a:blip r:embed="rId2"/>
          <a:stretch/>
        </p:blipFill>
        <p:spPr>
          <a:xfrm>
            <a:off x="1057320" y="457200"/>
            <a:ext cx="7029360" cy="49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86F-49DB-4BD5-80D2-3E10F2BC53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Manchester Research Centre for Computational Science (MRCCS)</a:t>
            </a:r>
            <a:endParaRPr b="1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ocus for HPC activities throughout the University of Manches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putational Chemistr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entre for Novel Computing (Computer Scienc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: Manchester Visualization Centr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: CSAR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chool of Engineer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ordinated research program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mmer Schoo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ummer Scholarship program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minars (with live broadcast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84C-607B-44CC-B673-CC9E06DEC1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y Mummy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1" name="mummy2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6676920"/>
          </a:xfrm>
          <a:prstGeom prst="rect">
            <a:avLst/>
          </a:prstGeom>
          <a:ln w="0">
            <a:noFill/>
          </a:ln>
        </p:spPr>
      </p:pic>
      <p:pic>
        <p:nvPicPr>
          <p:cNvPr id="232" name="jamie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29136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2F2-366D-4C0E-A64A-669D6774FA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4" name="mask_crop" descr=""/>
          <p:cNvPicPr/>
          <p:nvPr/>
        </p:nvPicPr>
        <p:blipFill>
          <a:blip r:embed="rId1"/>
          <a:stretch/>
        </p:blipFill>
        <p:spPr>
          <a:xfrm>
            <a:off x="0" y="0"/>
            <a:ext cx="4753080" cy="3971880"/>
          </a:xfrm>
          <a:prstGeom prst="rect">
            <a:avLst/>
          </a:prstGeom>
          <a:ln w="0">
            <a:noFill/>
          </a:ln>
        </p:spPr>
      </p:pic>
      <p:pic>
        <p:nvPicPr>
          <p:cNvPr id="235" name="head2_crop1" descr=""/>
          <p:cNvPicPr/>
          <p:nvPr/>
        </p:nvPicPr>
        <p:blipFill>
          <a:blip r:embed="rId2"/>
          <a:stretch/>
        </p:blipFill>
        <p:spPr>
          <a:xfrm>
            <a:off x="4448160" y="1981080"/>
            <a:ext cx="469584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980-D68F-4E7D-84C1-A587778339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3187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F69-57F5-44FD-99DF-D5F3666866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Seismic Tomography &amp; Convection Modelling of the Earth’s Mantl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ith the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University of Liverpool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heir Probl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imulations run on 512 PEs of Cray T3E for up to 12 hour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Four main problem area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odelling this thick spherical shell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Visualizing it in 3D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Resource restrictions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Their etho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50C-8FB6-4E33-BA08-2C06C43427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Real Author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Jo Leng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John Brook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ul Lev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104" name="id_lever" descr=""/>
          <p:cNvPicPr/>
          <p:nvPr/>
        </p:nvPicPr>
        <p:blipFill>
          <a:blip r:embed="rId1"/>
          <a:stretch/>
        </p:blipFill>
        <p:spPr>
          <a:xfrm>
            <a:off x="2743200" y="4876920"/>
            <a:ext cx="1428840" cy="1279440"/>
          </a:xfrm>
          <a:prstGeom prst="rect">
            <a:avLst/>
          </a:prstGeom>
          <a:ln w="0">
            <a:noFill/>
          </a:ln>
        </p:spPr>
      </p:pic>
      <p:pic>
        <p:nvPicPr>
          <p:cNvPr id="105" name="JohnBrooke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1247760" cy="1447560"/>
          </a:xfrm>
          <a:prstGeom prst="rect">
            <a:avLst/>
          </a:prstGeom>
          <a:ln w="0">
            <a:noFill/>
          </a:ln>
        </p:spPr>
      </p:pic>
      <p:pic>
        <p:nvPicPr>
          <p:cNvPr id="106" name="jo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198800" cy="1371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1905120"/>
            <a:ext cx="3124080" cy="17524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124080"/>
            <a:ext cx="3276360" cy="175284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648320"/>
            <a:ext cx="3581280" cy="16002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0AA-CD0B-472D-8599-CBEBDB629F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odelling the shel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inversion of the data dates back to the 1930’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Variations dominate radiall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ake the model 1D (depth is the main factor)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Historically analyse the data by 2D projection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Academic peers now want more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46" name="old_2D_tomo2" descr=""/>
          <p:cNvPicPr/>
          <p:nvPr/>
        </p:nvPicPr>
        <p:blipFill>
          <a:blip r:embed="rId1"/>
          <a:stretch/>
        </p:blipFill>
        <p:spPr>
          <a:xfrm>
            <a:off x="1714680" y="4114800"/>
            <a:ext cx="5715000" cy="19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4E2-9E89-43CF-8CF1-38E8101EDC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3D Visualization of a Thick Spherical Shel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49" name="iso" descr=""/>
          <p:cNvPicPr/>
          <p:nvPr/>
        </p:nvPicPr>
        <p:blipFill>
          <a:blip r:embed="rId1"/>
          <a:stretch/>
        </p:blipFill>
        <p:spPr>
          <a:xfrm>
            <a:off x="380880" y="1847880"/>
            <a:ext cx="3962520" cy="3162240"/>
          </a:xfrm>
          <a:prstGeom prst="rect">
            <a:avLst/>
          </a:prstGeom>
          <a:ln w="0">
            <a:noFill/>
          </a:ln>
        </p:spPr>
      </p:pic>
      <p:pic>
        <p:nvPicPr>
          <p:cNvPr id="250" name="seg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646440" cy="27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08A-9D8B-4AFD-82CF-80AB8D4E0B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Special Challenges/Probl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Renderers only handle straight line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spherical data must be resample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Large data sets benefit from special data reduction/handling techniques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Reference information allows surface features to be related to internal ones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Shell is thick &amp; close to centre of the sphere, angular component is important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Perceptual factors make orientation, perspective and colour difficult to interpret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Depth was not before a visual factor, originally 2D projections were used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New normalisation is neede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Cut planes are also 2D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Internal data may be self obscuring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9DC-4084-4DC1-9E57-B6367A4E27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 the pole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 the other latitude band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55" name="tomo_cells1" descr=""/>
          <p:cNvPicPr/>
          <p:nvPr/>
        </p:nvPicPr>
        <p:blipFill>
          <a:blip r:embed="rId1"/>
          <a:srcRect l="0" t="6924" r="0" b="5696"/>
          <a:stretch/>
        </p:blipFill>
        <p:spPr>
          <a:xfrm>
            <a:off x="4724280" y="4362480"/>
            <a:ext cx="4419720" cy="2495520"/>
          </a:xfrm>
          <a:prstGeom prst="rect">
            <a:avLst/>
          </a:prstGeom>
          <a:ln w="0">
            <a:noFill/>
          </a:ln>
        </p:spPr>
      </p:pic>
      <p:pic>
        <p:nvPicPr>
          <p:cNvPr id="256" name="incidentala" descr=""/>
          <p:cNvPicPr/>
          <p:nvPr/>
        </p:nvPicPr>
        <p:blipFill>
          <a:blip r:embed="rId2"/>
          <a:stretch/>
        </p:blipFill>
        <p:spPr>
          <a:xfrm>
            <a:off x="0" y="3863880"/>
            <a:ext cx="270504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61C-19DA-404C-AE30-E9C8E0C6BC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Display and data reduction issu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esampled data set is 3 to 4 x size of the original on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No longer interactive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ifficult to see the extents of the data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59" name="pic2.1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260" name="pic2.2" descr=""/>
          <p:cNvPicPr/>
          <p:nvPr/>
        </p:nvPicPr>
        <p:blipFill>
          <a:blip r:embed="rId2"/>
          <a:stretch/>
        </p:blipFill>
        <p:spPr>
          <a:xfrm>
            <a:off x="2166840" y="3429000"/>
            <a:ext cx="240516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B01-4D06-4920-817A-B0FC79CC58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Reference Data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omography data of the Earth’s mantle is strongly related to other information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Volcanic” hotspot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Tectonic plate boundari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astlin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pseudo-colour is the standard one for the field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Data can be normalised to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ake the variation in the inner most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layers as prominent as the outer most.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63" name="norm_cut" descr=""/>
          <p:cNvPicPr/>
          <p:nvPr/>
        </p:nvPicPr>
        <p:blipFill>
          <a:blip r:embed="rId1"/>
          <a:stretch/>
        </p:blipFill>
        <p:spPr>
          <a:xfrm>
            <a:off x="5943600" y="4303800"/>
            <a:ext cx="3200400" cy="2554200"/>
          </a:xfrm>
          <a:prstGeom prst="rect">
            <a:avLst/>
          </a:prstGeom>
          <a:ln w="0">
            <a:noFill/>
          </a:ln>
        </p:spPr>
      </p:pic>
      <p:pic>
        <p:nvPicPr>
          <p:cNvPr id="264" name="not_norm_cut" descr=""/>
          <p:cNvPicPr/>
          <p:nvPr/>
        </p:nvPicPr>
        <p:blipFill>
          <a:blip r:embed="rId2"/>
          <a:srcRect l="4134" t="0" r="4134" b="0"/>
          <a:stretch/>
        </p:blipFill>
        <p:spPr>
          <a:xfrm>
            <a:off x="6905520" y="2209680"/>
            <a:ext cx="223848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400-2FB4-476E-9920-2696EBDCFA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ahoma"/>
              </a:rPr>
              <a:t>VIPAR: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n Environment for Generating Parallel Modules in AVS/Expres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odular Visualization Environments (MVEs)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xist for building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sualization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68" name="vipar-ov-1-image-1" descr=""/>
          <p:cNvPicPr/>
          <p:nvPr/>
        </p:nvPicPr>
        <p:blipFill>
          <a:blip r:embed="rId1"/>
          <a:stretch/>
        </p:blipFill>
        <p:spPr>
          <a:xfrm>
            <a:off x="3633840" y="2387520"/>
            <a:ext cx="5510160" cy="447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4FA-A657-436D-80BA-BD6FF6E639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Building an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-flow/Event-flow paradigm for exec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 passes through the network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odules are the compute nodes which process/transform the dat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tegrate application code by writing new modul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7872840" y="4191120"/>
            <a:ext cx="115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D data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1280" y="4191120"/>
            <a:ext cx="3556440" cy="2025000"/>
            <a:chOff x="4571280" y="4191120"/>
            <a:chExt cx="3556440" cy="2025000"/>
          </a:xfrm>
        </p:grpSpPr>
        <p:sp>
          <p:nvSpPr>
            <p:cNvPr id="273" name=""/>
            <p:cNvSpPr/>
            <p:nvPr/>
          </p:nvSpPr>
          <p:spPr>
            <a:xfrm>
              <a:off x="593244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68720" y="4633560"/>
              <a:ext cx="152640" cy="266400"/>
            </a:xfrm>
            <a:custGeom>
              <a:avLst/>
              <a:gdLst/>
              <a:ahLst/>
              <a:rect l="l" t="t" r="r" b="b"/>
              <a:pathLst>
                <a:path w="96" h="168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4"/>
                  </a:lnTo>
                  <a:lnTo>
                    <a:pt x="56" y="168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1680" y="4633560"/>
              <a:ext cx="7596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81680" y="4633560"/>
              <a:ext cx="139680" cy="22824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48" y="0"/>
                  </a:moveTo>
                  <a:lnTo>
                    <a:pt x="88" y="0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5040" y="4191120"/>
              <a:ext cx="38160" cy="12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45040" y="4633560"/>
              <a:ext cx="38160" cy="12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45040" y="4203360"/>
              <a:ext cx="38160" cy="4298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05560" y="46083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41840" y="4633560"/>
              <a:ext cx="152640" cy="266400"/>
            </a:xfrm>
            <a:custGeom>
              <a:avLst/>
              <a:gdLst/>
              <a:ahLst/>
              <a:rect l="l" t="t" r="r" b="b"/>
              <a:pathLst>
                <a:path w="96" h="168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4"/>
                  </a:lnTo>
                  <a:lnTo>
                    <a:pt x="56" y="168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54440" y="4633560"/>
              <a:ext cx="7632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54440" y="4633560"/>
              <a:ext cx="140040" cy="22824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48" y="0"/>
                  </a:moveTo>
                  <a:lnTo>
                    <a:pt x="88" y="0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18160" y="4191120"/>
              <a:ext cx="38160" cy="122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8160" y="4633560"/>
              <a:ext cx="38160" cy="1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18160" y="4203360"/>
              <a:ext cx="38160" cy="429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1336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24"/>
                  </a:moveTo>
                  <a:lnTo>
                    <a:pt x="16" y="24"/>
                  </a:lnTo>
                  <a:lnTo>
                    <a:pt x="24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50000" y="4633560"/>
              <a:ext cx="139680" cy="279000"/>
            </a:xfrm>
            <a:custGeom>
              <a:avLst/>
              <a:gdLst/>
              <a:ahLst/>
              <a:rect l="l" t="t" r="r" b="b"/>
              <a:pathLst>
                <a:path w="88" h="176">
                  <a:moveTo>
                    <a:pt x="48" y="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8" y="144"/>
                  </a:lnTo>
                  <a:lnTo>
                    <a:pt x="48" y="176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8" y="144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8" y="8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2600" y="4633560"/>
              <a:ext cx="63720" cy="1260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0" y="0"/>
                  </a:move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62600" y="4633560"/>
              <a:ext cx="127080" cy="228240"/>
            </a:xfrm>
            <a:custGeom>
              <a:avLst/>
              <a:gdLst/>
              <a:ahLst/>
              <a:rect l="l" t="t" r="r" b="b"/>
              <a:pathLst>
                <a:path w="80" h="144">
                  <a:moveTo>
                    <a:pt x="40" y="0"/>
                  </a:moveTo>
                  <a:lnTo>
                    <a:pt x="80" y="0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3360" y="4191120"/>
              <a:ext cx="38160" cy="122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13360" y="4633560"/>
              <a:ext cx="38160" cy="12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3360" y="4203360"/>
              <a:ext cx="38160" cy="4298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40240" y="46083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24"/>
                  </a:moveTo>
                  <a:lnTo>
                    <a:pt x="16" y="24"/>
                  </a:lnTo>
                  <a:lnTo>
                    <a:pt x="24" y="16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76880" y="4633560"/>
              <a:ext cx="139680" cy="279000"/>
            </a:xfrm>
            <a:custGeom>
              <a:avLst/>
              <a:gdLst/>
              <a:ahLst/>
              <a:rect l="l" t="t" r="r" b="b"/>
              <a:pathLst>
                <a:path w="88" h="176">
                  <a:moveTo>
                    <a:pt x="48" y="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8" y="144"/>
                  </a:lnTo>
                  <a:lnTo>
                    <a:pt x="48" y="176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8" y="144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8" y="8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9480" y="4633560"/>
              <a:ext cx="63720" cy="1260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0" y="0"/>
                  </a:moveTo>
                  <a:lnTo>
                    <a:pt x="40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9480" y="4633560"/>
              <a:ext cx="127080" cy="228240"/>
            </a:xfrm>
            <a:custGeom>
              <a:avLst/>
              <a:gdLst/>
              <a:ahLst/>
              <a:rect l="l" t="t" r="r" b="b"/>
              <a:pathLst>
                <a:path w="80" h="144">
                  <a:moveTo>
                    <a:pt x="40" y="0"/>
                  </a:moveTo>
                  <a:lnTo>
                    <a:pt x="80" y="0"/>
                  </a:lnTo>
                  <a:lnTo>
                    <a:pt x="40" y="144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40240" y="4191120"/>
              <a:ext cx="38160" cy="12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40240" y="4633560"/>
              <a:ext cx="38160" cy="12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40240" y="4203360"/>
              <a:ext cx="38160" cy="4298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35880" y="59259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24"/>
                  </a:moveTo>
                  <a:lnTo>
                    <a:pt x="24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24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72160" y="5951160"/>
              <a:ext cx="152280" cy="264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56" y="0"/>
                  </a:move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6" y="143"/>
                  </a:lnTo>
                  <a:lnTo>
                    <a:pt x="56" y="167"/>
                  </a:lnTo>
                  <a:lnTo>
                    <a:pt x="48" y="14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6" y="143"/>
                  </a:lnTo>
                  <a:lnTo>
                    <a:pt x="48" y="143"/>
                  </a:lnTo>
                  <a:lnTo>
                    <a:pt x="48" y="143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56" y="8"/>
                  </a:lnTo>
                  <a:lnTo>
                    <a:pt x="56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84760" y="5951160"/>
              <a:ext cx="76320" cy="126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84760" y="5951160"/>
              <a:ext cx="139680" cy="226800"/>
            </a:xfrm>
            <a:custGeom>
              <a:avLst/>
              <a:gdLst/>
              <a:ahLst/>
              <a:rect l="l" t="t" r="r" b="b"/>
              <a:pathLst>
                <a:path w="88" h="143">
                  <a:moveTo>
                    <a:pt x="48" y="0"/>
                  </a:moveTo>
                  <a:lnTo>
                    <a:pt x="88" y="0"/>
                  </a:lnTo>
                  <a:lnTo>
                    <a:pt x="48" y="143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5506920"/>
              <a:ext cx="38160" cy="122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48480" y="5938560"/>
              <a:ext cx="38160" cy="1224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48480" y="5519520"/>
              <a:ext cx="38160" cy="41868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1280" y="4228920"/>
              <a:ext cx="120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ourm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36720" y="5633640"/>
              <a:ext cx="186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ometric 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37800" y="5862240"/>
              <a:ext cx="142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treamlin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vipar-ov-1-image-2" descr=""/>
            <p:cNvPicPr/>
            <p:nvPr/>
          </p:nvPicPr>
          <p:blipFill>
            <a:blip r:embed="rId36"/>
            <a:srcRect l="23149" t="33820" r="30560" b="32403"/>
            <a:stretch/>
          </p:blipFill>
          <p:spPr>
            <a:xfrm>
              <a:off x="5689440" y="4889160"/>
              <a:ext cx="243828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746-3CD3-4AB5-B823-CE19ACAA50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ll modules controlled by Object Manag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bject Manager single threaded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rial Module Execu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ewer - 3D Scene,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allel graphics in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VS/Expres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Multi-Pipe Edition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for Virtual Realit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14" name="PIC00007a" descr=""/>
          <p:cNvPicPr/>
          <p:nvPr/>
        </p:nvPicPr>
        <p:blipFill>
          <a:blip r:embed="rId1"/>
          <a:stretch/>
        </p:blipFill>
        <p:spPr>
          <a:xfrm>
            <a:off x="4343400" y="28195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A23-95CC-4748-BB6C-6AEEF9EE7E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University of Manchester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stablished 1851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e of the largest in the UK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tudent number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search Incom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…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e of the best in the UK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search qualit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Graduates getting job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each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12" name="74" descr=""/>
          <p:cNvPicPr/>
          <p:nvPr/>
        </p:nvPicPr>
        <p:blipFill>
          <a:blip r:embed="rId1"/>
          <a:stretch/>
        </p:blipFill>
        <p:spPr>
          <a:xfrm>
            <a:off x="4267080" y="3708360"/>
            <a:ext cx="4876920" cy="3149640"/>
          </a:xfrm>
          <a:prstGeom prst="rect">
            <a:avLst/>
          </a:prstGeom>
          <a:ln w="0">
            <a:noFill/>
          </a:ln>
        </p:spPr>
      </p:pic>
      <p:pic>
        <p:nvPicPr>
          <p:cNvPr id="113" name="71" descr=""/>
          <p:cNvPicPr/>
          <p:nvPr/>
        </p:nvPicPr>
        <p:blipFill>
          <a:blip r:embed="rId2"/>
          <a:stretch/>
        </p:blipFill>
        <p:spPr>
          <a:xfrm>
            <a:off x="5740560" y="0"/>
            <a:ext cx="340344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54F-5040-4B66-A1D9-AF317355E0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owards parallel solu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se of the systems has led to problems: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Bottlenecks created by highly computational modules  (blocking all others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Large datasets cannot easily fit into the memory of a single compute nod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re are a number of schemes for adding module parallelism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e will classify them into three main group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EDC-B7B9-4ABE-AD0D-3F5CAA9A84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1. Functional or Task Parallelism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ach module can execute on a separate processor or machin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s is a coarse grain sol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4495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xample: AVS5 Remote Parallel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6540480" cy="29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503-6050-42F0-956A-93D9EEAF489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2. Parallel Modul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utationally expensive modules are parallelised / vectorised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is is a fine grain sol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79360" y="3124080"/>
            <a:ext cx="8583480" cy="353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810-3543-43C5-9BA1-394D47C07A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3. Parallel System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allel modules pass data using parallel communication method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ine grain but no overheads from composition / redistribu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150920" y="3414600"/>
            <a:ext cx="7993080" cy="34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798-53A5-46EF-9988-11E77BA3FA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System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4952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PRvsi - Visualization system interfac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PRidd/dd - Data Distribution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974960" y="1963800"/>
            <a:ext cx="519408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3BA-BDF3-49C6-929E-3107A394B14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Decomposition Tool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n interactive tool to allow the user to describe the specification of a parallel module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specification includes: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ata decomposition strategy for inpu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arget platform and system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position of outpu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Neighborhood information and boundary conditions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e will take a closer look at some of the distribution scheme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836-E71A-4B88-8B58-0A3060B754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Decomposi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7562880" cy="19047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108680" cy="2065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04920" y="4495680"/>
            <a:ext cx="182088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4AE-682B-4BD2-907C-93BA8E4CC0B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ducing the tagged data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889280" y="1752480"/>
            <a:ext cx="5365440" cy="39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4AE-7A4D-4F7A-94E7-301BB058A40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Example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n example application has been developed to integrate a parallel version of marching cubes (iso-surface generation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put data is distributed in blocks (BLOCK, BLOCK, BLOCK)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Workers generate a list of triangles which form part of complete iso-surface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arness combines surface portions into complete dataset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ome test results have been obtained..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293-5332-4D2D-B36D-56C52958C1B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Isosurface Applicat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1" name="vipar-ov-1-image-18a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528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162-70CB-4587-8110-867F41F24AC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Computing at Manchester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Fundamental Computer Scien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Next slid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pplications of computing, e.g.,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olecular modelling, chemistry, engineering,…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edicine, social anthropology, ageing proces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16" name="uom_today" descr=""/>
          <p:cNvPicPr/>
          <p:nvPr/>
        </p:nvPicPr>
        <p:blipFill>
          <a:blip r:embed="rId1"/>
          <a:stretch/>
        </p:blipFill>
        <p:spPr>
          <a:xfrm>
            <a:off x="0" y="4448160"/>
            <a:ext cx="725976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1981080"/>
            <a:ext cx="3124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ut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nchester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0,000 computers on 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25,000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rom &gt; 150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71A-F64A-4F18-850D-58A94F945F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Examples of Isosurfac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3" name="vipar-ov-1-image-19" descr=""/>
          <p:cNvPicPr/>
          <p:nvPr/>
        </p:nvPicPr>
        <p:blipFill>
          <a:blip r:embed="rId1"/>
          <a:srcRect l="0" t="0" r="11630" b="0"/>
          <a:stretch/>
        </p:blipFill>
        <p:spPr>
          <a:xfrm>
            <a:off x="0" y="1219320"/>
            <a:ext cx="8686800" cy="54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052-54B3-4A66-BE46-6835CD05923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erformance - Hydrogen Data Set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345" name="vipar-ov-1-image-20a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05720" cy="498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27B-36BC-46E8-A915-704B2236587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ulti-Pipe Rendering Framework for Visualization Applica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295280" y="5105520"/>
            <a:ext cx="1371600" cy="920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057400" y="-6480"/>
            <a:ext cx="18432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1752480" cy="50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Multi-Pipe Edition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ject Research Partner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dvanced Visual Systems (AVS)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-Visualization Software &amp; Solution Vendo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ubota Graphics Technology, Inc. Partn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Graphics Technology Partner (MPU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anchester Visualisation Centre, IAC: International AVS Centre (Research Partner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838080" y="2133720"/>
            <a:ext cx="182880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43C-D1A0-44CF-A514-07DA12E97EA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pplication Area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eoSciences (Oil &amp; Gas)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GOCAD, GeoQues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Medical 3D Reconstruction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DICOM Image Stack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CF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lot3D, CFX, Fluen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FE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Autodyn3D, Goodyear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GI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Arc/Info, Oracle Spatial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Data Mining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Oracle, Informix, ODBC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3352680"/>
            <a:ext cx="2209680" cy="1143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S/Ex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2209680"/>
            <a:ext cx="1828800" cy="3429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y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6600" y="3886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1905120"/>
            <a:ext cx="685800" cy="4114800"/>
          </a:xfrm>
          <a:custGeom>
            <a:avLst/>
            <a:gdLst>
              <a:gd name="textAreaLeft" fmla="*/ 0 w 685800"/>
              <a:gd name="textAreaRight" fmla="*/ 247680 w 6858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0" y="3886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27440" y="4757760"/>
            <a:ext cx="19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F29-DD37-463F-BF27-B9016A3F31A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Immersive Environment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AV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Reality Cen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owerWal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isDo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…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.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65" name="trimension-rooms6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5181480" cy="3752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86280" y="555480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mension Systems, 3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035-5415-4D6D-8645-C879F947F88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Rendering System 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penGL 1.1 / 1.2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igh-performance data structur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2D/3D Textur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BTF Volume Render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Quad-buffer Stereo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igh portability (Windows, UNIX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plimentary Software renderer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(X-server, Printing, Postscript, CGM)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26692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BAE-F545-4134-911F-F4D05003D1B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 Archite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PU Renderer means no changes to application layer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1474920" y="2819520"/>
            <a:ext cx="20206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50880" y="5334120"/>
            <a:ext cx="2021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/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13040" y="5334120"/>
            <a:ext cx="15354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FC/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94240" y="5334120"/>
            <a:ext cx="14544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/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19440" y="5105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74960" y="2819520"/>
            <a:ext cx="1778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z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99160" y="2819520"/>
            <a:ext cx="1454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8200" y="3581280"/>
            <a:ext cx="266724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4419720"/>
            <a:ext cx="51721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2400" y="3581280"/>
            <a:ext cx="258624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62240" y="2514600"/>
            <a:ext cx="60958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62240" y="5257800"/>
            <a:ext cx="60958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38680" y="330984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90160" y="53672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8800" y="4987800"/>
            <a:ext cx="2225520" cy="1870200"/>
            <a:chOff x="1828800" y="4987800"/>
            <a:chExt cx="2225520" cy="1870200"/>
          </a:xfrm>
        </p:grpSpPr>
        <p:sp>
          <p:nvSpPr>
            <p:cNvPr id="387" name=""/>
            <p:cNvSpPr/>
            <p:nvPr/>
          </p:nvSpPr>
          <p:spPr>
            <a:xfrm>
              <a:off x="2225520" y="4987800"/>
              <a:ext cx="1828800" cy="1447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640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343-0575-4BD1-AAEF-37B20C4FE94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 Viewer Stru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58208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akes Advantage of Virtual Renderer Structur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60020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z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28600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17524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81280"/>
            <a:ext cx="22860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5320" y="1523880"/>
            <a:ext cx="19810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er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2209680"/>
            <a:ext cx="205740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e 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4038480"/>
            <a:ext cx="2057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1600200"/>
            <a:ext cx="25146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Rend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2438280"/>
            <a:ext cx="25146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set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i-strip, norm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3581280"/>
            <a:ext cx="25146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19280" y="47926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GL/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162920" y="4191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16765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04" name=""/>
          <p:cNvSpPr/>
          <p:nvPr/>
        </p:nvSpPr>
        <p:spPr>
          <a:xfrm>
            <a:off x="3505320" y="4952880"/>
            <a:ext cx="22096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382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71800" y="190512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19051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3880" y="1066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62720" y="4495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790960" y="19810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198108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705720" y="5257800"/>
            <a:ext cx="10666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457200" y="1447920"/>
            <a:ext cx="8229600" cy="4944960"/>
            <a:chOff x="457200" y="1447920"/>
            <a:chExt cx="8229600" cy="4944960"/>
          </a:xfrm>
        </p:grpSpPr>
        <p:sp>
          <p:nvSpPr>
            <p:cNvPr id="414" name=""/>
            <p:cNvSpPr/>
            <p:nvPr/>
          </p:nvSpPr>
          <p:spPr>
            <a:xfrm>
              <a:off x="5791320" y="1447920"/>
              <a:ext cx="2895480" cy="42670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7200" y="5935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3F0-74A4-415D-8EF0-01E5D903B5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ulti-Pipe Utility (MPU)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SGI Multi-pipe Utility (MPU) is a multi-pipe programming interface for OpenGL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ey features 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lexible pipe, window and channel configuration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Easy integration in OpenGL application framewor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herent support for Stereo and Head Motion Tracking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ransparent parallelization of rendering processe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943600" y="4578480"/>
            <a:ext cx="3200400" cy="22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CD9-E320-4F93-9BF5-86D538DA531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er Innovation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World firsts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tored program 1948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ommercial computer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dex register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Virtual Memory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ataflow machine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20" name="mark1" descr=""/>
          <p:cNvPicPr/>
          <p:nvPr/>
        </p:nvPicPr>
        <p:blipFill>
          <a:blip r:embed="rId1"/>
          <a:stretch/>
        </p:blipFill>
        <p:spPr>
          <a:xfrm>
            <a:off x="3200400" y="3402000"/>
            <a:ext cx="594360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CED-C059-4FA7-9CBA-80C0F3C1A5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PU Key Benefit for AV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SCII configuration file format, the MPU provides run-time portability of OpenGL-based applications between single-user and large-scale environments such as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CAVE Environments (4/5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alityCenter Curved Screen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PowerWall, HoloDes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mmersaDes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ngle Executable Deployment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1" name="mpu_fig1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272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4C1-35EB-447F-8BDD-A4068EDAF2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PU external camera config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ultiple Display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hannels for Single Scen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ngle Executable Applic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4" name="mpu-snapshot" descr=""/>
          <p:cNvPicPr/>
          <p:nvPr/>
        </p:nvPicPr>
        <p:blipFill>
          <a:blip r:embed="rId1"/>
          <a:stretch/>
        </p:blipFill>
        <p:spPr>
          <a:xfrm>
            <a:off x="4257720" y="2057400"/>
            <a:ext cx="4886280" cy="4062240"/>
          </a:xfrm>
          <a:prstGeom prst="rect">
            <a:avLst/>
          </a:prstGeom>
          <a:ln w="0">
            <a:noFill/>
          </a:ln>
        </p:spPr>
      </p:pic>
      <p:pic>
        <p:nvPicPr>
          <p:cNvPr id="425" name="mpu_fig2" descr=""/>
          <p:cNvPicPr/>
          <p:nvPr/>
        </p:nvPicPr>
        <p:blipFill>
          <a:blip r:embed="rId2"/>
          <a:stretch/>
        </p:blipFill>
        <p:spPr>
          <a:xfrm>
            <a:off x="0" y="4589640"/>
            <a:ext cx="2590920" cy="22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EB3-48A4-46A5-984B-29BC2061A0D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VS/Express View-Renderer Menu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rt of View attribut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inimal UI chang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ynamic switching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/out of MPU mod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mple Menu contro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28" name="mpu-view-menu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724640" cy="2498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05120" y="3809880"/>
            <a:ext cx="23619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A45-A2BD-460F-AA86-99A7E1D6728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XP/MPU in 4-wall CAV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VS/Express Multi-Pipe Edition Trial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4-Wall CAVE configuration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tereo Displa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ikkawa-san &amp; Miyachi-san of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GT Inc., pictured in CAVE at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ISSHO Electronics, Tokyo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32" name="jpcave-small" descr=""/>
          <p:cNvPicPr/>
          <p:nvPr/>
        </p:nvPicPr>
        <p:blipFill>
          <a:blip r:embed="rId1"/>
          <a:stretch/>
        </p:blipFill>
        <p:spPr>
          <a:xfrm>
            <a:off x="5549760" y="1004760"/>
            <a:ext cx="3594240" cy="585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C85-1A0C-44FD-A0FE-3A30574F526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Probing the universe via an intercontinental cluster of T3E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earching for Pulsar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35" name="meta_sc99%20copy" descr=""/>
          <p:cNvPicPr/>
          <p:nvPr/>
        </p:nvPicPr>
        <p:blipFill>
          <a:blip r:embed="rId1"/>
          <a:srcRect l="3594" t="22413" r="5610" b="47646"/>
          <a:stretch/>
        </p:blipFill>
        <p:spPr>
          <a:xfrm>
            <a:off x="1143000" y="3276720"/>
            <a:ext cx="6858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Metacomputing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437" name="sc99topology" descr=""/>
          <p:cNvPicPr/>
          <p:nvPr/>
        </p:nvPicPr>
        <p:blipFill>
          <a:blip r:embed="rId1"/>
          <a:stretch/>
        </p:blipFill>
        <p:spPr>
          <a:xfrm>
            <a:off x="0" y="266760"/>
            <a:ext cx="9120240" cy="659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C59-69AA-4E11-A4BE-5EFFFBC93193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The logistics are formidabl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achines are busy production machines.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ystem administrators make the machines available manuall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 experiments were run at 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14:00 in Portland Oregon.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16:00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Pittsburgh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07:00 in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sukuba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23:00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Manchester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idnight in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Stuttgart it is midnight. 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harm and tact were required!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4DE-E11A-4EF3-8665-8889EE15DF2C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And there’s the networking!!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t took two weeks and over a  hundred emails to set up the Manchester-Stuttgart PVC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HLRS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Pittsburgh staff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t up the transatlantic PVC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KERNA tried to get a PVC from Manchester to Pittsburgh but it was held up by problems in the US. It finally became available the day after the final experiment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B60-1EDD-4297-B1A2-BE857E8EB0E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Data handling and transmission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ll 10 Gigabytes of input data initially reside on the Manchester T3E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R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presents </a:t>
            </a: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approximately 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one hour of observations of the globular cluster M80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Processors on all hosts, both local and remote, are enlisted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During the run, huge volumes of data are transferred across the network to remote processors.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se</a:t>
            </a: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 just enough remote processors to saturate the available bandwidth.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t the end of the run, multiple transformed time series are sent back by FTP for post-processing in Manchester.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703-3991-4731-9335-FDAAA1F2387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What advantages would this bring?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bserving time may be limited, real-time processing allows it to be used more effectively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There may be a race to identify something new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earching algorithms can be dynamically updated in the light of post-processing result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liminating tapes is more elegant and saves staff time at both ends.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A9E-BE4F-4B93-9B75-4E13F44A497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Manchester Computing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provides services to: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niversity of Manchester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UK Academia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upercomputing (CSAR)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formation &amp; data services (MIMAS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ajor node in UK Academic Network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ternational Servic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International AVS Centre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IMAS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Government, Commerce &amp; Industry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Supercomputing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ternet exchange point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Networks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ultimedia (Advanced Telematics Centre)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nsultancy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R&amp;D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23" name="Ag00023_" descr=""/>
          <p:cNvPicPr/>
          <p:nvPr/>
        </p:nvPicPr>
        <p:blipFill>
          <a:blip r:embed="rId1"/>
          <a:stretch/>
        </p:blipFill>
        <p:spPr>
          <a:xfrm>
            <a:off x="6681960" y="1523880"/>
            <a:ext cx="246204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DEC-E7FB-4285-B145-6ECD2F5F9C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So what are we trying to do?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1981080" cy="2590920"/>
          </a:xfrm>
          <a:prstGeom prst="rect">
            <a:avLst/>
          </a:prstGeom>
          <a:noFill/>
          <a:ln w="50760">
            <a:solidFill>
              <a:srgbClr val="de203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Use it all in Real-Tim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Greater throughput of Scien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48" name="09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3352680" cy="2146320"/>
          </a:xfrm>
          <a:prstGeom prst="rect">
            <a:avLst/>
          </a:prstGeom>
          <a:ln w="0">
            <a:noFill/>
          </a:ln>
        </p:spPr>
      </p:pic>
      <p:pic>
        <p:nvPicPr>
          <p:cNvPr id="449" name="DCP_1614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3276360" cy="2174760"/>
          </a:xfrm>
          <a:prstGeom prst="rect">
            <a:avLst/>
          </a:prstGeom>
          <a:ln w="0">
            <a:noFill/>
          </a:ln>
        </p:spPr>
      </p:pic>
      <p:pic>
        <p:nvPicPr>
          <p:cNvPr id="450" name="CrayT3E-Nicola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2266920" cy="2279520"/>
          </a:xfrm>
          <a:prstGeom prst="rect">
            <a:avLst/>
          </a:prstGeom>
          <a:ln w="0">
            <a:noFill/>
          </a:ln>
        </p:spPr>
      </p:pic>
      <p:pic>
        <p:nvPicPr>
          <p:cNvPr id="451" name="BOSSES" descr=""/>
          <p:cNvPicPr/>
          <p:nvPr/>
        </p:nvPicPr>
        <p:blipFill>
          <a:blip r:embed="rId4"/>
          <a:stretch/>
        </p:blipFill>
        <p:spPr>
          <a:xfrm>
            <a:off x="2438280" y="4433760"/>
            <a:ext cx="3233880" cy="24242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2895480" y="4419720"/>
            <a:ext cx="2210040" cy="533160"/>
          </a:xfrm>
          <a:prstGeom prst="rect">
            <a:avLst/>
          </a:prstGeom>
          <a:noFill/>
          <a:ln w="50760">
            <a:solidFill>
              <a:srgbClr val="de2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3200400"/>
            <a:ext cx="2133720" cy="13716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564-38D9-40FB-BF0A-E1EDA645213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Finally thanks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o all those at 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niversity of Manchester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Computing,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chester Visualizatipn Centre, CSAR, Manchester Muse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CSC Farnborough, HLRS, 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Pittsburgh Supercomputing Center 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TL at Tsukuba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University of Liverpool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EPSRC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KGT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SGI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Narrow"/>
              </a:rPr>
              <a:t>AVS</a:t>
            </a:r>
            <a:endParaRPr b="1" lang="en-US" sz="16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To the telecommunications providers on three continents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F1C-EAD9-4814-BD79-D4539974AD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How to contact m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W T Hewitt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Manchester Visualization Centre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niversity of Manchester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Manchester M13 9PL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United Kingdom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+44 161 275 6095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+44 161 275 6800 (fax)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w.t.hewitt@man.ac.uk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man.ac.uk/MVC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csar.cfs.ac.uk 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http://www.iavsc.org</a:t>
            </a:r>
            <a:endParaRPr b="1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69E-129A-4E88-AB54-9249BC33307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Building a City Infostructure</a:t>
            </a: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419720"/>
            <a:ext cx="5715000" cy="1523880"/>
          </a:xfrm>
          <a:prstGeom prst="ellipse">
            <a:avLst/>
          </a:prstGeom>
          <a:solidFill>
            <a:srgbClr val="b3b9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1182600"/>
            <a:ext cx="5079960" cy="2297160"/>
          </a:xfrm>
          <a:prstGeom prst="ellipse">
            <a:avLst/>
          </a:prstGeom>
          <a:solidFill>
            <a:srgbClr val="fe9b03"/>
          </a:solidFill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066680"/>
            <a:ext cx="1905120" cy="472464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838080"/>
            <a:ext cx="2057400" cy="4724640"/>
          </a:xfrm>
          <a:prstGeom prst="ellipse">
            <a:avLst/>
          </a:prstGeom>
          <a:solidFill>
            <a:srgbClr val="b3b9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0000" y="571680"/>
            <a:ext cx="1236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l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556080"/>
            <a:ext cx="736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M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1840" y="3562200"/>
            <a:ext cx="1420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yal Norther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llege of Mu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160" y="2895480"/>
            <a:ext cx="117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2440" y="507960"/>
            <a:ext cx="231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Metropolit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990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8320" y="2133720"/>
            <a:ext cx="236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Edu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 (G-M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480" y="1390680"/>
            <a:ext cx="16286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ference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320" y="990720"/>
            <a:ext cx="204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Town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914400"/>
            <a:ext cx="489240" cy="35388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12193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1352520"/>
            <a:ext cx="1047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ll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14300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990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1066680"/>
            <a:ext cx="404640" cy="36540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200400"/>
            <a:ext cx="40500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3276720"/>
            <a:ext cx="40464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276720"/>
            <a:ext cx="405000" cy="365040"/>
          </a:xfrm>
          <a:prstGeom prst="cube">
            <a:avLst>
              <a:gd name="adj" fmla="val 24995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06560" y="1486080"/>
            <a:ext cx="1676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6400800"/>
            <a:ext cx="396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Community Information 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11480" y="4114800"/>
            <a:ext cx="25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Pop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62960" y="5562720"/>
            <a:ext cx="1195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llage H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12920" y="4162320"/>
            <a:ext cx="533520" cy="60984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5334120"/>
            <a:ext cx="304920" cy="30456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5029200"/>
            <a:ext cx="304920" cy="30492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5486400"/>
            <a:ext cx="304920" cy="30492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304920" y="4114800"/>
            <a:ext cx="1447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3505320"/>
            <a:ext cx="533160" cy="76176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68480" y="4057560"/>
            <a:ext cx="174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ltimedia C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28800" y="3962520"/>
            <a:ext cx="317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914640"/>
            <a:ext cx="75240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381400" y="3295800"/>
            <a:ext cx="93348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1752480"/>
            <a:ext cx="1713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9800" y="1333440"/>
            <a:ext cx="10476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810120" y="1266840"/>
            <a:ext cx="190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6095880" y="3286080"/>
            <a:ext cx="2095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1920" y="3552840"/>
            <a:ext cx="1236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versity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3581280"/>
            <a:ext cx="1082880" cy="54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0200" y="3429000"/>
            <a:ext cx="554040" cy="2239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3000" y="4876920"/>
            <a:ext cx="890640" cy="849240"/>
            <a:chOff x="1143000" y="4876920"/>
            <a:chExt cx="890640" cy="849240"/>
          </a:xfrm>
        </p:grpSpPr>
        <p:sp>
          <p:nvSpPr>
            <p:cNvPr id="170" name=""/>
            <p:cNvSpPr/>
            <p:nvPr/>
          </p:nvSpPr>
          <p:spPr>
            <a:xfrm>
              <a:off x="1200240" y="4876920"/>
              <a:ext cx="777960" cy="777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76320" y="523080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35200" y="551340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82760" y="5569200"/>
              <a:ext cx="15732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3000" y="5343840"/>
              <a:ext cx="15732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7400" y="4977000"/>
              <a:ext cx="156960" cy="156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4419720"/>
            <a:ext cx="533520" cy="5331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67000" y="3987720"/>
            <a:ext cx="258480" cy="2192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76240" y="3728880"/>
            <a:ext cx="409680" cy="2239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1447920"/>
            <a:ext cx="488880" cy="35388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838080"/>
            <a:ext cx="212760" cy="581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009800"/>
            <a:ext cx="488880" cy="3729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9680" y="1549440"/>
            <a:ext cx="25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aching 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64280" y="888840"/>
            <a:ext cx="2140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chester Muse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f Science and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6160" y="5505480"/>
            <a:ext cx="890640" cy="933480"/>
            <a:chOff x="4286160" y="5505480"/>
            <a:chExt cx="890640" cy="933480"/>
          </a:xfrm>
        </p:grpSpPr>
        <p:sp>
          <p:nvSpPr>
            <p:cNvPr id="185" name=""/>
            <p:cNvSpPr/>
            <p:nvPr/>
          </p:nvSpPr>
          <p:spPr>
            <a:xfrm>
              <a:off x="4343400" y="5589720"/>
              <a:ext cx="777960" cy="777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38600" y="550548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50000" y="5632560"/>
              <a:ext cx="156960" cy="15696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9840" y="5943600"/>
              <a:ext cx="156960" cy="1573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8360" y="622620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25920" y="628164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86160" y="6056280"/>
              <a:ext cx="157320" cy="15732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0560" y="5689800"/>
              <a:ext cx="157320" cy="156960"/>
            </a:xfrm>
            <a:prstGeom prst="ellipse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945480" y="2743200"/>
            <a:ext cx="1319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ultime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603520"/>
            <a:ext cx="2286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76400" y="3689280"/>
            <a:ext cx="409680" cy="26820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1000" y="4276800"/>
            <a:ext cx="405000" cy="365040"/>
          </a:xfrm>
          <a:prstGeom prst="cube">
            <a:avLst>
              <a:gd name="adj" fmla="val 249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02120" y="3492360"/>
            <a:ext cx="50796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1752480"/>
            <a:ext cx="304920" cy="30492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29600" y="2209680"/>
            <a:ext cx="304920" cy="304920"/>
          </a:xfrm>
          <a:prstGeom prst="cube">
            <a:avLst>
              <a:gd name="adj" fmla="val 24995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245000" y="1936800"/>
            <a:ext cx="901800" cy="203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182000" y="2400480"/>
            <a:ext cx="1047600" cy="247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64400" y="1523880"/>
            <a:ext cx="14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oston Brook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4680" y="2514600"/>
            <a:ext cx="14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akwood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4600" y="4610160"/>
            <a:ext cx="2508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kers Education Assoc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61520" y="5105520"/>
            <a:ext cx="339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chester Community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1FA-6657-478A-862E-7492F12FEF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n-line access to: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ata analysis/manipulation servi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pecialist support services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Documentation, training &amp; user support</a:t>
            </a:r>
            <a:endParaRPr b="1" lang="en-US" sz="1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08" name="MIMASDIG" descr=""/>
          <p:cNvPicPr/>
          <p:nvPr/>
        </p:nvPicPr>
        <p:blipFill>
          <a:blip r:embed="rId1"/>
          <a:stretch/>
        </p:blipFill>
        <p:spPr>
          <a:xfrm>
            <a:off x="371520" y="228600"/>
            <a:ext cx="877248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90D-D6BE-41AE-9BCB-D1C6DFE172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National HPC services continuously since 1972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Flagship supercomputer service for UK Academia &amp; Commerce</a:t>
            </a:r>
            <a:endParaRPr b="1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pic>
        <p:nvPicPr>
          <p:cNvPr id="210" name="xx012" descr=""/>
          <p:cNvPicPr/>
          <p:nvPr/>
        </p:nvPicPr>
        <p:blipFill>
          <a:blip r:embed="rId1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280368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19720" y="15228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Computer Sciences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University of Manch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S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Sep06%5E28" descr=""/>
          <p:cNvPicPr/>
          <p:nvPr/>
        </p:nvPicPr>
        <p:blipFill>
          <a:blip r:embed="rId3"/>
          <a:stretch/>
        </p:blipFill>
        <p:spPr>
          <a:xfrm>
            <a:off x="0" y="382428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chester Computing Europe's premier university computer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FBF-E1B8-4A34-B801-16E6A46680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VSJapan00</a:t>
            </a: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9T13:57:04Z</dcterms:created>
  <dc:creator>W T Hewitt</dc:creator>
  <dc:description/>
  <dc:language>en-US</dc:language>
  <cp:lastModifiedBy>W T Hewitt</cp:lastModifiedBy>
  <cp:lastPrinted>2000-10-04T11:07:16Z</cp:lastPrinted>
  <dcterms:modified xsi:type="dcterms:W3CDTF">2000-10-06T12:20:20Z</dcterms:modified>
  <cp:revision>32</cp:revision>
  <dc:subject/>
  <dc:title>Proposal to host Euro-Par 2001 in Manchester UK </dc:title>
</cp:coreProperties>
</file>