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27477"/>
        <c:axId val="53263313"/>
      </c:barChart>
      <c:catAx>
        <c:axId val="94227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63313"/>
        <c:crosses val="autoZero"/>
        <c:auto val="1"/>
        <c:lblAlgn val="ctr"/>
        <c:lblOffset val="100"/>
        <c:noMultiLvlLbl val="0"/>
      </c:catAx>
      <c:valAx>
        <c:axId val="53263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27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5F6-BEC3-4118-9B70-8FEBC918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41B-1FE2-4074-B501-81AD49DC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D8C-50D2-485F-8045-FBCCD7B9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58E-2109-4277-A2E5-C7EF0ABB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B53-F482-4058-B2C9-293E7AB2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E14-A239-4FBA-A86B-666F799C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224-5836-4568-A9CC-AB14884C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06E-9D43-4AA8-AF75-30C3BA33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93B-9319-463D-B0C4-11071089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AA7-9911-4FC5-9531-CB4C802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507-34F8-418E-9EA0-6B44D47D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68B-CB68-4BDB-AF48-B2BAF92A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B0FAF-F958-4095-B6F2-54A19164AC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